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AC34D-CEB9-4307-8999-6FB552B35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9589D-185F-422D-9923-E5AA2E7E1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C91A0-F18A-4470-9553-B25D4B605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638EC-7FFC-4EF0-977E-CA72C3C36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0702E-7692-449C-A7F6-96F51FA1F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B1961-41DF-40AD-B05D-8EF362CE5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6A34E-FF80-4F4C-8347-4029C6B02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9B909-CBA6-4381-96F9-D4DAA75C2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3EA96-34CB-4676-A1EB-BE95B33ED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B380D-2BA3-40FE-A14A-C551EEF8C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B71E3-54C9-48C5-91FB-F7B5F0BDB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FB78A-1C12-4B7F-A701-D69DBA691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9222-247D-45F9-BB7D-09865F567B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1" name=""/>
          <p:cNvSpPr txBox="1"/>
          <p:nvPr/>
        </p:nvSpPr>
        <p:spPr>
          <a:xfrm rot="533400">
            <a:off x="-612720" y="1844280"/>
            <a:ext cx="9144000" cy="2637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ur egungo etorkin latinoamerikarrak</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ERGATIAK</a:t>
            </a:r>
            <a:endParaRPr b="0" lang="en-US" sz="4400" spc="-1" strike="noStrike">
              <a:solidFill>
                <a:srgbClr val="000000"/>
              </a:solidFill>
              <a:latin typeface="Arial"/>
            </a:endParaRPr>
          </a:p>
        </p:txBody>
      </p:sp>
      <p:sp>
        <p:nvSpPr>
          <p:cNvPr id="43" name="PlaceHolder 2"/>
          <p:cNvSpPr>
            <a:spLocks noGrp="1"/>
          </p:cNvSpPr>
          <p:nvPr>
            <p:ph/>
          </p:nvPr>
        </p:nvSpPr>
        <p:spPr>
          <a:xfrm>
            <a:off x="179280" y="1600200"/>
            <a:ext cx="8507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Imigranteak lana aurkitzeko asmotan etortzen dira.Alde batetik janaria eta lo egiteko leku baten bila. Baina gehien bat, beren familiei dirua bidaltzeko. Baina ez dira aberastasunaren bila etortzen. Badakite txarto pasatuko dutela, paperak ez dutela izango eta ezin izango dute kalera atera leku publikoetara joan polizia identifikatu eta espulsatu ahal dietelak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AK</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2000" spc="-1" strike="noStrike">
                <a:solidFill>
                  <a:srgbClr val="000000"/>
                </a:solidFill>
                <a:latin typeface="Arial"/>
              </a:rPr>
              <a:t>Imigrante gehienak Espainiara etortzen dira lana bilatzeko. Kamarero bezala edo nagusiak zaintzen lan egiten dute. Inmigrante batzuk bere herrietan medikuak edo lan inportanteak zituzten, baina hemen Espainian lan kaskarrekin konformatu behar dira. G.K.E askok   inmigranteak laguntzen dituzte, batez ere,emakume imigranteei laguntzen diete lana aurkitz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spainan lan egiten duten inmigrante gehienengoak, gizonak dira. Gutxiengoak, ordea, emakumeak dir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spainiako lanetako nagusiak paperik gabeko inmigranteak nahiago dute lanean eukiteko. Seguritate Soziala ordain behar ez dietelako eta nahi dutenean lanetik bota ahal dutelako kontraturik gabe daudelak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HITURAK</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Guatemalan Gabon Gaba gau berezi bat da. Guatemalarrek familiarekin biltzen dira. Afaldu baino lehen otoitz egiten dute, kanpoan suziriak entzuten diren bitartean. Opariak zabaltzen direnean danak abesten eta dantzatzen hasten dira, familiarekin gozatuz.</a:t>
            </a:r>
            <a:br>
              <a:rPr sz="2000"/>
            </a:br>
            <a:r>
              <a:rPr b="1" lang="es-ES" sz="2000" spc="-1" strike="noStrike">
                <a:solidFill>
                  <a:srgbClr val="000000"/>
                </a:solidFill>
                <a:latin typeface="Arial"/>
              </a:rPr>
              <a:t>Afariko janaria bertako tradizionala da, baina eskualdeen arabera alda daitezke. Tipikoena tamal izeneko janaria eta ponchea artesa da.Tamalak txerrikiarekin eta tomate saltsarekin betetzen dira gehienetan. Ponchea, ordea, fruitu lehorrak, pasak, okaranak, datilak, azukrea eta likore apur bat darama.</a:t>
            </a:r>
            <a:br>
              <a:rPr sz="2000"/>
            </a:br>
            <a:r>
              <a:rPr b="1" lang="es-ES" sz="2000" spc="-1" strike="noStrike">
                <a:solidFill>
                  <a:srgbClr val="000000"/>
                </a:solidFill>
                <a:latin typeface="Arial"/>
              </a:rPr>
              <a:t>Cubako Gabonetako ohiturak bi urtetan, soilik, kontserbatu ziren 1959ko Erreboluzioaren ondoren. Gabonetako usadio guztiak galdu ziren sistema marxista  boterean egon zenean. Ondorengo belaunanldiek aiton-amonei galdetu behar diete Gabonei buruz, haiek ez baitute tradizio hau bizi.</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KONOMI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Lehen aipatu dugun bezala inmigranteek, gehienbat, lan bila etortzen dira Espainiara diru premia daukatelako. Horregatik, eskulan, garbiketa-lanak etab. ontzat hartzen dituzte. Hori gure ekonomiarentzako ezinhobea da. Hala ere, ez dute diru asko irabazten. Izan ere, askotan pertsona asko apartamentu txikietan bizi dira eta bizi-kalitate baxua dauk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LA HARTZEN DITUGU</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000000"/>
                </a:solidFill>
                <a:latin typeface="Arial"/>
              </a:rPr>
              <a:t>Espainiako immigrazioaren alderdi bat kontuan hartu behar da. Ez da diskriminatu behar baizik eta justizia egin. 300 urtetan zehar Espainiak gaur egungo Nazio Iberoamerikarretan garrantzia izan du. XX mendean zehar eta, bereziki, gerra zibilean herrialde horiek Espainiako etorkin asko hartu zituzten. Horregatik, gaur egun, haiek etortzean guk ere harrera ona egitearen betebeharra daukag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000000"/>
                </a:solidFill>
                <a:latin typeface="Arial"/>
              </a:rPr>
              <a:t>Lortu behar dugu Hegoamerikako etorkinak hona etortzean gure gizartean integratzea, nahiz eta, batzuetan, lana kendu. Kontuan hartu behar dugu, lan gogorrenak haiek egiten dituzte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DORIOAK</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arrantzitsua da azpimarratzea inmigrazioa lehen bezala orain ere oso onuragarria izan dela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painiarentzat. Demografikoki, biztanleriaren urteko %1,5eko hazkundeak %1,2 zor die inmigranteei.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zken hamarkadan, BPGren hazkundearen %30 ere inmigranteen lanean dago oinarrituta. Eta langil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migranteek Gizarte Segurantzari guztira egindako  ekarpena 8.000 milioi eurokoa izan da 2006a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Ondorioa oso argia da: Espainiak bere ongizatea neurri handian inmigrazioari zor dio.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Ondorio onuragarri horiek alde kaltegarria ere izan lezakete, baldin eta ez bagara gauza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migrante berrien sarrera kontrolatzeko eta arrazionalizatzeko, eta hemen bizi direnen integrazioa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hobetzeko. Espainiaren harrera ahalmena, munduko beste herrialde guztiena bezala, ez baita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ugagabea. Eta hori ahaztu gabe Espainiak, bere kokapen geografikoagatik eta Latinoamerikarekin ditue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oturengatik, hurrengo urteetan ere hainbat inmigrazio presio jasango dituen herrialdea izaten jarraituko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ue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3:04:26Z</dcterms:created>
  <dc:creator>ik015111zz</dc:creator>
  <dc:description/>
  <dc:language>en-US</dc:language>
  <cp:lastModifiedBy>ik015111zz</cp:lastModifiedBy>
  <dcterms:modified xsi:type="dcterms:W3CDTF">2012-05-18T06:38:07Z</dcterms:modified>
  <cp:revision>6</cp:revision>
  <dc:subject/>
  <dc:title>Diapositiva 1</dc:title>
</cp:coreProperties>
</file>